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26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9.jpeg" ContentType="image/jpeg"/>
  <Override PartName="/ppt/media/image2.gif" ContentType="image/gif"/>
  <Override PartName="/ppt/media/image23.png" ContentType="image/png"/>
  <Override PartName="/ppt/media/image13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6.jpeg" ContentType="image/jpeg"/>
  <Override PartName="/ppt/media/image37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.png" ContentType="image/png"/>
  <Override PartName="/ppt/media/image17.jpeg" ContentType="image/jpeg"/>
  <Override PartName="/ppt/media/image34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24F1-F017-4A0B-90EE-D0584FBA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929C-1C40-413F-A910-FF496CEF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7283-5E9B-4E1A-9A97-F4A2F4797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F52F-3A26-4921-8162-2A81BFA2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AA00-416A-40C6-8275-71B21321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9257-B0A5-4E09-8BAC-723173DF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77AD-3DC2-4035-92AF-4C2F5CDD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E7AA-F3CC-4F13-98BD-2EBA05DB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5B25-820E-4F0F-A3E7-2FE11AF6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EB56-1B56-412C-9D76-83F64BAE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3E65-4089-4987-BDD7-B4C5B0C5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08DB-F721-4724-AB55-8AC8172F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C9A1-A3DE-49C9-A251-04897D58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5620-398C-41DB-AADF-609B36E9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61DF-71E3-41A7-910C-34919152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F5FB-35BD-45C3-89F5-B7567F96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E94C-071C-482A-9DDC-0E122323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176C2A-3902-4868-9899-508F8080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462460-8016-45BD-AB3D-908E0715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2791F9-582A-457E-B92F-6329A661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0AB07E-DF6A-4850-9734-A3DF52EC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E8CC5E-DC3A-45F1-9B18-1B2488F3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E5E7-1404-4FB8-B7EE-4CFB9236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FC36B-6C75-43E2-BCD1-7067B27A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E94C6B-4353-4ECA-8DD8-B775DA5B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42A88-E05E-47C1-AFFB-A2363C27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5546AE-8C43-4B46-9D5C-25041DEC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F17246-BB6F-47FC-9895-09E8635E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D7466-5EED-4A98-87FF-59ABB7D9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731C18-F6FD-4812-ADBC-DDAB7B08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34D4F-329F-4C0C-BB1E-D3C77E27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B738A-D8ED-44E4-BBCB-83383512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F67A4-C527-4FD6-9690-C6A8A5C5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2CCF-5767-4C9C-9F64-3B5CCCBF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D368C-55F9-4126-8DD5-706BB1B5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32E18-9414-450A-878F-15E8279C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A97E0-5AC9-41D6-ADED-BA39649E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61778-0A65-49AA-AFBB-FC985A15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C636E-21A6-43E3-87B3-719947ED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792E4-084B-418C-B429-19968311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D6781-1F28-439B-B9DD-7CD69C50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896FA-DE7D-4CDE-9DEC-8C87C1A5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BB5C4-C290-4AEF-9C05-D32CBEAD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57FA01-65A6-4326-8B00-F14A4B4D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3EE6-57D2-4279-AAE2-FCDEA335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F05488-F9B0-46C3-9DE3-6073E10B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05E88D-531A-429B-BACF-C6AC95DF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E33D4B-7D11-4245-9028-C2765343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5A8FD6-C49B-4FAE-B54D-CDA73966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1EF532-95E9-4361-B887-8A24B567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C355C5-0515-4120-85BE-849C6DF5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AF3460-8323-45F4-B2EB-D72C831A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899351-3A89-4EA6-8789-FDAE6045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B80590-4314-44BB-86C6-F59F1947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ED4967-AB58-45DA-83EF-1B680DB6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B28-5855-473A-BFEF-BC57250F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0CEEA1-1CD0-4682-AD33-D760D58B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46DB56-50EE-4F7E-828C-3391EC18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3CD224-DAAD-44EA-AE97-23986990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BBF81B-5E7C-42EE-8469-7DC3381A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CDC282-E309-4286-B496-6AA54481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B16FBF-5931-4013-BF38-30C789B0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B29E6D-F486-4127-9BDF-51E1C6CB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A66CAC-E41A-442D-B1DB-6FF158EE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DD5573-471D-4913-AC0F-33C80387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37FBA7-034B-4B35-9579-EA3C1C27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B7AA-8A98-43A3-8B06-4BFEABE9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BE1294-AD88-4426-B397-25E55FE1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8B01D4-B045-46B5-863E-3106CC2C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BA2F8C-2873-4C2F-B0AE-FDD650A9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DCF841-FD30-4535-A165-052D09A2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C4A215-207E-433D-888E-97D0DEE2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E4B63E-D667-4F5E-B54C-0402DB1F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4F5936-D2EF-4247-B595-4CE04DCD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826A44-ED22-4A59-89B7-79D17A22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0DE454-E2D6-4AAA-961B-445F96C1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E17F34-18B3-42D7-B39E-3A4B76D2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1429-4EEF-4E17-81A6-1328DECF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5C4629-DC46-4C25-840E-A7DCC3F4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7AEF2B-9E35-4E44-8C7E-17E65E41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C4479B-6116-41D8-AD64-9C5D535F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C36C4F-3A97-4E67-A460-0BBBEF4A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1F6E22-BF2F-4009-A0B8-34976276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6A8A-F873-46CC-A6CE-0C0CC553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 сполучна ліні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 сполучна ліні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 сполучна ліні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кут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 сполучна ліні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B75F-F699-46D9-BA26-9B5F49BBE13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кут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кут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кут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кут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 сполучна ліні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 сполучна ліні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 сполучна ліні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 сполучна ліні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 сполучна ліні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 сполучна ліні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кут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E2A6-F320-4EA3-8CBF-6C4CB993B5F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 сполучна ліні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 сполучна ліні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 сполучна ліні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кут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 сполучна ліні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DA01-4DCD-4B71-9FD0-D013B363199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кут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кут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кут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кут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 сполучна ліні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 сполучна ліні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 сполучна ліні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 сполучна ліні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 сполучна ліні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кут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 сполучна ліні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E2FE-12BD-4DBD-888D-CFABD961C8F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 сполучна ліні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 сполучна ліні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 сполучна ліні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кут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 сполучна ліні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2E14-09DE-42A2-AD3B-4EE20F29D5A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 сполучна ліні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 сполучна ліні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 сполучна ліні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 сполучна ліні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кут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 сполучна ліні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2943-4A98-4009-8A13-7179EA12B3F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 сполучна ліні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 сполучна ліні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кут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 сполучна ліні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 сполучна ліні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 сполучна ліні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8DC0-C2AE-4878-839D-90DE863EC11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85960" y="357120"/>
            <a:ext cx="71438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575f6d"/>
                </a:solidFill>
                <a:latin typeface="Bookman Old Style"/>
              </a:rPr>
              <a:t>ГАЛУЗЕВА СТРУКТУРА РОСЛИННИЦТВ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2000160" y="857160"/>
            <a:ext cx="6715080" cy="57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Рільництв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Зернові культур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Круп'яні культу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Зерново-бобові культу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Технічні культу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Картопляр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Овочівниц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Садівниц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Вирощування баштанних культу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Виноградар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Ягідниц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Вирощування кормових культу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1908000" y="18900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Також вирощують соняшник та рап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" descr="http://borvisti.com.ua/foto/439_01.jpg"/>
          <p:cNvPicPr/>
          <p:nvPr/>
        </p:nvPicPr>
        <p:blipFill>
          <a:blip r:embed="rId1"/>
          <a:stretch/>
        </p:blipFill>
        <p:spPr>
          <a:xfrm>
            <a:off x="2066760" y="692280"/>
            <a:ext cx="4376880" cy="3286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http://www.agrotimes.net/uploads/posts/1259838962_rapes_field.jpg"/>
          <p:cNvPicPr/>
          <p:nvPr/>
        </p:nvPicPr>
        <p:blipFill>
          <a:blip r:embed="rId2"/>
          <a:stretch/>
        </p:blipFill>
        <p:spPr>
          <a:xfrm>
            <a:off x="4788000" y="3591000"/>
            <a:ext cx="4132080" cy="310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1"/>
          <p:cNvSpPr/>
          <p:nvPr/>
        </p:nvSpPr>
        <p:spPr>
          <a:xfrm>
            <a:off x="1908000" y="18900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Збільшилась кількість посівів сої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http://agrobiznes.com.ua/photos/news/2009/05/u_brazilii_bude_viro.jpg"/>
          <p:cNvPicPr/>
          <p:nvPr/>
        </p:nvPicPr>
        <p:blipFill>
          <a:blip r:embed="rId1"/>
          <a:stretch/>
        </p:blipFill>
        <p:spPr>
          <a:xfrm>
            <a:off x="1908000" y="611280"/>
            <a:ext cx="3527640" cy="35272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http://uznaika.com/uploads/posts/2009-02/1235807280_soja6.jpg"/>
          <p:cNvPicPr/>
          <p:nvPr/>
        </p:nvPicPr>
        <p:blipFill>
          <a:blip r:embed="rId2"/>
          <a:stretch/>
        </p:blipFill>
        <p:spPr>
          <a:xfrm>
            <a:off x="5288040" y="3068640"/>
            <a:ext cx="3619440" cy="367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28880" y="428760"/>
            <a:ext cx="714384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75f6d"/>
                </a:solidFill>
                <a:latin typeface="Bookman Old Style"/>
              </a:rPr>
              <a:t>ПОСІВНІ ПЛОЩІ  ОСНОВНИХ СІЛЬСЬКОГОСПОДАРСЬКИХ КУЛЬТУР, ТИС. ГА (2004-2008)</a:t>
            </a: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575f6d"/>
                </a:solidFill>
                <a:latin typeface="Bookman Old Style"/>
              </a:rPr>
              <a:t>ЗЕРНОВІ ТА ЗЕРНОБОБОВІ КУЛЬТУРИ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3" name="Діаграма 4" descr=""/>
          <p:cNvPicPr/>
          <p:nvPr/>
        </p:nvPicPr>
        <p:blipFill>
          <a:blip r:embed="rId1"/>
          <a:stretch/>
        </p:blipFill>
        <p:spPr>
          <a:xfrm>
            <a:off x="2357280" y="1428840"/>
            <a:ext cx="6096240" cy="46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28880" y="571680"/>
            <a:ext cx="714384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75f6d"/>
                </a:solidFill>
                <a:latin typeface="Bookman Old Style"/>
              </a:rPr>
              <a:t>ПОСІВНІ ПЛОЩІ  ОСНОВНИХ СІЛЬСЬКОГОСПОДАРСЬКИХ КУЛЬТУР, ТИС. ГА (2004-2008)</a:t>
            </a: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ЦУКРОВІ БУРЯКИ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5" name="Діаграма 4" descr=""/>
          <p:cNvPicPr/>
          <p:nvPr/>
        </p:nvPicPr>
        <p:blipFill>
          <a:blip r:embed="rId1"/>
          <a:stretch/>
        </p:blipFill>
        <p:spPr>
          <a:xfrm>
            <a:off x="2357280" y="1428840"/>
            <a:ext cx="6096240" cy="46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28880" y="642600"/>
            <a:ext cx="71438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75f6d"/>
                </a:solidFill>
                <a:latin typeface="Bookman Old Style"/>
              </a:rPr>
              <a:t>ПОСІВНІ ПЛОЩІ  ОСНОВНИХ СІЛЬСЬКОГОСПОДАРСЬКИХ КУЛЬТУР, ТИС. ГА (2004-2008)</a:t>
            </a: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СОНЯШНИК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7" name="Діаграма 3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7120080" cy="496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928880" y="499680"/>
            <a:ext cx="71438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75f6d"/>
                </a:solidFill>
                <a:latin typeface="Bookman Old Style"/>
              </a:rPr>
              <a:t>ПОСІВНІ ПЛОЩІ  ОСНОВНИХ СІЛЬСЬКОГОСПОДАРСЬКИХ КУЛЬТУР, ТИС. ГА (2004-2008)</a:t>
            </a: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КАРТОПЛЯ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9" name="Діаграма 4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7334280" cy="503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http://www.propozitsiya.com/image.cgi?id=1534&amp;randid=kmFDRn"/>
          <p:cNvPicPr/>
          <p:nvPr/>
        </p:nvPicPr>
        <p:blipFill>
          <a:blip r:embed="rId1"/>
          <a:stretch/>
        </p:blipFill>
        <p:spPr>
          <a:xfrm>
            <a:off x="3780000" y="115920"/>
            <a:ext cx="3108240" cy="28814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http://www.agromark.com.ua/uploads/images/FAN2025449.JPG"/>
          <p:cNvPicPr/>
          <p:nvPr/>
        </p:nvPicPr>
        <p:blipFill>
          <a:blip r:embed="rId2"/>
          <a:stretch/>
        </p:blipFill>
        <p:spPr>
          <a:xfrm>
            <a:off x="2124000" y="3357720"/>
            <a:ext cx="6667560" cy="292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928880" y="571680"/>
            <a:ext cx="714384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75f6d"/>
                </a:solidFill>
                <a:latin typeface="Bookman Old Style"/>
              </a:rPr>
              <a:t>ПОСІВНІ ПЛОЩІ  ОСНОВНИХ СІЛЬСЬКОГОСПОДАРСЬКИХ КУЛЬТУР, ТИС. ГА (2004-2008)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ОВОЧІ ВІДКРИТОГО ҐРУНТУ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3" name="Діаграма 5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7263000" cy="510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http://upi.org.ua/_nw/100/66980678.jpg"/>
          <p:cNvPicPr/>
          <p:nvPr/>
        </p:nvPicPr>
        <p:blipFill>
          <a:blip r:embed="rId1"/>
          <a:stretch/>
        </p:blipFill>
        <p:spPr>
          <a:xfrm>
            <a:off x="2195640" y="189000"/>
            <a:ext cx="3024000" cy="2184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http://turas.te.ua/files/rediska8.jpg"/>
          <p:cNvPicPr/>
          <p:nvPr/>
        </p:nvPicPr>
        <p:blipFill>
          <a:blip r:embed="rId2"/>
          <a:stretch/>
        </p:blipFill>
        <p:spPr>
          <a:xfrm>
            <a:off x="5651640" y="189000"/>
            <a:ext cx="2881080" cy="21654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http://www.agroportal.org.ua/userfiles/tomatoes%20ii.jpg"/>
          <p:cNvPicPr/>
          <p:nvPr/>
        </p:nvPicPr>
        <p:blipFill>
          <a:blip r:embed="rId3"/>
          <a:stretch/>
        </p:blipFill>
        <p:spPr>
          <a:xfrm>
            <a:off x="1998720" y="2924280"/>
            <a:ext cx="3417840" cy="36082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http://agroua.net/img/plant/catalog/sorts/299.jpg"/>
          <p:cNvPicPr/>
          <p:nvPr/>
        </p:nvPicPr>
        <p:blipFill>
          <a:blip r:embed="rId4"/>
          <a:srcRect l="0" t="1952" r="0" b="0"/>
          <a:stretch/>
        </p:blipFill>
        <p:spPr>
          <a:xfrm>
            <a:off x="5724360" y="2924280"/>
            <a:ext cx="3024360" cy="361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28880" y="499680"/>
            <a:ext cx="71438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75f6d"/>
                </a:solidFill>
                <a:latin typeface="Bookman Old Style"/>
              </a:rPr>
              <a:t>ПОСІВНІ ПЛОЩІ  ОСНОВНИХ СІЛЬСЬКОГОСПОДАРСЬКИХ КУЛЬТУР, ТИС. ГА (2004-2008)</a:t>
            </a: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 КОРМОВІ КУЛЬТУРИ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9" name="Діаграма 3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7334280" cy="503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785960" y="571320"/>
            <a:ext cx="7143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75f6d"/>
                </a:solidFill>
                <a:latin typeface="Bookman Old Style"/>
              </a:rPr>
              <a:t>ПРИРОДНІ УМОВИ ДЛЯ РОСТУ КУЛЬТУРНИХ РОСЛИН НА ТЕРЕНАХ УКРАЇНИ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071800" y="1501920"/>
          <a:ext cx="6786360" cy="4784760"/>
        </p:xfrm>
        <a:graphic>
          <a:graphicData uri="http://schemas.openxmlformats.org/drawingml/2006/table">
            <a:tbl>
              <a:tblPr/>
              <a:tblGrid>
                <a:gridCol w="1357200"/>
                <a:gridCol w="1357200"/>
                <a:gridCol w="1357560"/>
                <a:gridCol w="1357200"/>
                <a:gridCol w="1357200"/>
              </a:tblGrid>
              <a:tr h="115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18720">
                      <a:solidFill>
                        <a:srgbClr val="fdf5d5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егетаційний період, дн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18720">
                      <a:solidFill>
                        <a:srgbClr val="fdf5d5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еобхідна сума активних температур, ˚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18720">
                      <a:solidFill>
                        <a:srgbClr val="fdf5d5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еобхідна кількість вологи на 1м сухої речовини,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18720">
                      <a:solidFill>
                        <a:srgbClr val="fdf5d5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йбільш сприятливі ґрун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18720">
                      <a:solidFill>
                        <a:srgbClr val="fdf5d5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Ярова пшениц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1872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0-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1872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00-1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1872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1872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орноземи, каштанов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1872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зима пшениц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50-1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орнозе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18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укуруд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5-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11-2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орноземи, каштанов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Жи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0-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00-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ерново-підзоли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18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ьон-довгунец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5-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50-10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ерново-підзоли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Цукровий буря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0-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200-2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орнозе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ртоп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0-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00-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ерново-підзоли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http://www.agroexpert.kiev.ua/typo3temp/pics/275d668049.jpg"/>
          <p:cNvPicPr/>
          <p:nvPr/>
        </p:nvPicPr>
        <p:blipFill>
          <a:blip r:embed="rId1"/>
          <a:stretch/>
        </p:blipFill>
        <p:spPr>
          <a:xfrm>
            <a:off x="1908000" y="34920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1"/>
          <p:cNvSpPr/>
          <p:nvPr/>
        </p:nvSpPr>
        <p:spPr>
          <a:xfrm>
            <a:off x="2825280" y="262728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В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4" descr="http://www.propozitsiya.com/image.cgi?id=2068&amp;randid=VFFVw9"/>
          <p:cNvPicPr/>
          <p:nvPr/>
        </p:nvPicPr>
        <p:blipFill>
          <a:blip r:embed="rId2"/>
          <a:stretch/>
        </p:blipFill>
        <p:spPr>
          <a:xfrm>
            <a:off x="5292720" y="349200"/>
            <a:ext cx="3214800" cy="214308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6"/>
          <p:cNvSpPr/>
          <p:nvPr/>
        </p:nvSpPr>
        <p:spPr>
          <a:xfrm>
            <a:off x="6687000" y="26272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Ріп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6" descr="http://www.organic.ua/images/stories/wnews/ljucerna-velyka.jpg"/>
          <p:cNvPicPr/>
          <p:nvPr/>
        </p:nvPicPr>
        <p:blipFill>
          <a:blip r:embed="rId3"/>
          <a:stretch/>
        </p:blipFill>
        <p:spPr>
          <a:xfrm>
            <a:off x="1835280" y="3346560"/>
            <a:ext cx="3213000" cy="209844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8"/>
          <p:cNvSpPr/>
          <p:nvPr/>
        </p:nvSpPr>
        <p:spPr>
          <a:xfrm>
            <a:off x="2964600" y="573264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Люцер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8" descr="http://school.xvatit.com/images/d/d8/%D0%9C%D0%B0%D0%BB._177._%D0%91%D0%BE%D0%B1%D0%BE%D0%B2%D1%96_-_%D0%BA%D0%BE%D1%80%D0%BC%D0%BE%D0%B2%D1%96_%D1%96_%D0%BC%D0%B5%D0%B4%D0%BE%D0%BD%D0%BE%D1%81%D0%BD%D1%96_%D0%BA%D1%83%D0%BB%D1%8C%D1%82%D1%83%D1%80%D0%B8.jpg"/>
          <p:cNvPicPr/>
          <p:nvPr/>
        </p:nvPicPr>
        <p:blipFill>
          <a:blip r:embed="rId4"/>
          <a:srcRect l="4288" t="3532" r="4966" b="2709"/>
          <a:stretch/>
        </p:blipFill>
        <p:spPr>
          <a:xfrm>
            <a:off x="5319720" y="3002040"/>
            <a:ext cx="3219480" cy="36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286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75f6d"/>
                </a:solidFill>
                <a:latin typeface="Bookman Old Style"/>
              </a:rPr>
              <a:t>ВИРОБНИЦТВО ОСНОВНИХ СІЛЬСЬКОГОСПОДАРСЬКИХ КУЛЬТУР У 2009 РОЦІ, ТИС. Т. (СТАНОМ НА 1ВЕРЕСНЯ)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8" name="Діаграма 4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7334280" cy="517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3"/>
          <p:cNvSpPr/>
          <p:nvPr/>
        </p:nvSpPr>
        <p:spPr>
          <a:xfrm>
            <a:off x="1835280" y="189000"/>
            <a:ext cx="705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Серед областей рослинництва найважливішим є зернове господарство. Зернове господарство формує продовольчий фонд і поставляє фуражне зерно тваринництву, створює резервні державні запаси зерна і дає продукцію на експо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У структурі виробництва зерна більше половини припадає на озиму пшениц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Диаграмма 6" descr=""/>
          <p:cNvPicPr/>
          <p:nvPr/>
        </p:nvPicPr>
        <p:blipFill>
          <a:blip r:embed="rId1"/>
          <a:stretch/>
        </p:blipFill>
        <p:spPr>
          <a:xfrm>
            <a:off x="2265480" y="2225520"/>
            <a:ext cx="6678360" cy="449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1"/>
          <p:cNvSpPr/>
          <p:nvPr/>
        </p:nvSpPr>
        <p:spPr>
          <a:xfrm>
            <a:off x="1908000" y="115920"/>
            <a:ext cx="68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Посівна площа складає 4,1-5,2 млн га. Врожайність коливається від 1,5 до 2,2 тонн/га. Валовий збір — 6,0-11,4 млн тон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http://i.i.ua/photo/images/pic/3/4/4739243_2b6bb45b.jpg"/>
          <p:cNvPicPr/>
          <p:nvPr/>
        </p:nvPicPr>
        <p:blipFill>
          <a:blip r:embed="rId1"/>
          <a:stretch/>
        </p:blipFill>
        <p:spPr>
          <a:xfrm>
            <a:off x="2050920" y="1197000"/>
            <a:ext cx="3678480" cy="2606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http://www.agroportal.org.ua/userfiles/zerno.jpg"/>
          <p:cNvPicPr/>
          <p:nvPr/>
        </p:nvPicPr>
        <p:blipFill>
          <a:blip r:embed="rId2"/>
          <a:stretch/>
        </p:blipFill>
        <p:spPr>
          <a:xfrm>
            <a:off x="4678200" y="3500280"/>
            <a:ext cx="4286520" cy="321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2"/>
          <p:cNvSpPr/>
          <p:nvPr/>
        </p:nvSpPr>
        <p:spPr>
          <a:xfrm>
            <a:off x="1835280" y="115920"/>
            <a:ext cx="712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На внутрішнє споживання витрачається 4,9-6,5 млн тонн ячменю. Експортується 1,0-5,1 млн тонн. Імпорт складає до 0,1 млн тонн. Перехідні запаси — 0,7-1,2 млн тон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" descr="http://upload.wikimedia.org/wikipedia/commons/thumb/5/55/Hordeum-barley.jpg/275px-Hordeum-barley.jpg"/>
          <p:cNvPicPr/>
          <p:nvPr/>
        </p:nvPicPr>
        <p:blipFill>
          <a:blip r:embed="rId1"/>
          <a:stretch/>
        </p:blipFill>
        <p:spPr>
          <a:xfrm>
            <a:off x="1873080" y="2043000"/>
            <a:ext cx="2922840" cy="40500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http://www.all-creatures.org/recipes/images/i-barley.jpg"/>
          <p:cNvPicPr/>
          <p:nvPr/>
        </p:nvPicPr>
        <p:blipFill>
          <a:blip r:embed="rId2"/>
          <a:stretch/>
        </p:blipFill>
        <p:spPr>
          <a:xfrm>
            <a:off x="5021280" y="2700360"/>
            <a:ext cx="3944880" cy="273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оугольник 1"/>
          <p:cNvSpPr/>
          <p:nvPr/>
        </p:nvSpPr>
        <p:spPr>
          <a:xfrm>
            <a:off x="1889280" y="189000"/>
            <a:ext cx="70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На третьому місці по валовому збору перебуває кукурудза, на четвертому — жит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http://www.naturalist.if.ua/wp-content/zea_mais_naturalist_if_ua.jpg"/>
          <p:cNvPicPr/>
          <p:nvPr/>
        </p:nvPicPr>
        <p:blipFill>
          <a:blip r:embed="rId1"/>
          <a:stretch/>
        </p:blipFill>
        <p:spPr>
          <a:xfrm>
            <a:off x="1403280" y="1052640"/>
            <a:ext cx="4241880" cy="28270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http://news.leit.ru/wp-content/uploads/2009/06/japan_rye_field_05.jpg"/>
          <p:cNvPicPr/>
          <p:nvPr/>
        </p:nvPicPr>
        <p:blipFill>
          <a:blip r:embed="rId2"/>
          <a:stretch/>
        </p:blipFill>
        <p:spPr>
          <a:xfrm>
            <a:off x="4556160" y="3429000"/>
            <a:ext cx="4416480" cy="325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2"/>
          <p:cNvSpPr/>
          <p:nvPr/>
        </p:nvSpPr>
        <p:spPr>
          <a:xfrm>
            <a:off x="1908000" y="115920"/>
            <a:ext cx="70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За обсягами валового збору їм значно поступаються овес, просо, гречка, рис, зернобобов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http://www.ueipk.com.ua/ueipk.com.ua/pic/oats.jpg"/>
          <p:cNvPicPr/>
          <p:nvPr/>
        </p:nvPicPr>
        <p:blipFill>
          <a:blip r:embed="rId1"/>
          <a:stretch/>
        </p:blipFill>
        <p:spPr>
          <a:xfrm>
            <a:off x="1979640" y="954000"/>
            <a:ext cx="2016000" cy="2691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http://agricultura.ru/img/images/%D0%9F%D1%80%D0%BE%D1%81%D0%BE1.jpeg"/>
          <p:cNvPicPr/>
          <p:nvPr/>
        </p:nvPicPr>
        <p:blipFill>
          <a:blip r:embed="rId2"/>
          <a:srcRect l="10211" t="0" r="11086" b="0"/>
          <a:stretch/>
        </p:blipFill>
        <p:spPr>
          <a:xfrm>
            <a:off x="4248000" y="944640"/>
            <a:ext cx="2136960" cy="27144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http://os1.i.ua/3/1/4854998_1baccb29.jpg"/>
          <p:cNvPicPr/>
          <p:nvPr/>
        </p:nvPicPr>
        <p:blipFill>
          <a:blip r:embed="rId3"/>
          <a:srcRect l="5677" t="0" r="0" b="12061"/>
          <a:stretch/>
        </p:blipFill>
        <p:spPr>
          <a:xfrm>
            <a:off x="6647040" y="944640"/>
            <a:ext cx="2172960" cy="2700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0" descr="http://bigpicture.ru/wp-content/uploads/2009/08/india28_.jpg"/>
          <p:cNvPicPr/>
          <p:nvPr/>
        </p:nvPicPr>
        <p:blipFill>
          <a:blip r:embed="rId4"/>
          <a:stretch/>
        </p:blipFill>
        <p:spPr>
          <a:xfrm>
            <a:off x="1758960" y="4076640"/>
            <a:ext cx="3965400" cy="2208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http://ua.td-uap.com/tl_files/pict/gorox1.jpg"/>
          <p:cNvPicPr/>
          <p:nvPr/>
        </p:nvPicPr>
        <p:blipFill>
          <a:blip r:embed="rId5"/>
          <a:stretch/>
        </p:blipFill>
        <p:spPr>
          <a:xfrm>
            <a:off x="5940360" y="4057560"/>
            <a:ext cx="3032280" cy="221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оугольник 2"/>
          <p:cNvSpPr/>
          <p:nvPr/>
        </p:nvSpPr>
        <p:spPr>
          <a:xfrm>
            <a:off x="1835280" y="115920"/>
            <a:ext cx="712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У лісостепу склався найважливіший в Україні район виробництва цукрового буряка, який дає країні понад 40% цукру. Вирощуванню цукрового буряка сприяють помірна кількість опадів і чорноземні ґрун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http://www.agromark.com.ua/gall/b/1235639815.jpg"/>
          <p:cNvPicPr/>
          <p:nvPr/>
        </p:nvPicPr>
        <p:blipFill>
          <a:blip r:embed="rId1"/>
          <a:stretch/>
        </p:blipFill>
        <p:spPr>
          <a:xfrm>
            <a:off x="2151000" y="1844640"/>
            <a:ext cx="6497640" cy="4324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1"/>
          <p:cNvSpPr/>
          <p:nvPr/>
        </p:nvSpPr>
        <p:spPr>
          <a:xfrm>
            <a:off x="1908000" y="189000"/>
            <a:ext cx="70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У північній і західній частинах України вирощується ль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http://pics.livejournal.com/nickmet12/pic/0000g74q"/>
          <p:cNvPicPr/>
          <p:nvPr/>
        </p:nvPicPr>
        <p:blipFill>
          <a:blip r:embed="rId1"/>
          <a:stretch/>
        </p:blipFill>
        <p:spPr>
          <a:xfrm>
            <a:off x="2763720" y="914400"/>
            <a:ext cx="5408640" cy="5773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5:13:57Z</dcterms:created>
  <dc:creator>Виталий</dc:creator>
  <dc:description/>
  <dc:language>en-US</dc:language>
  <cp:lastModifiedBy>Виталий</cp:lastModifiedBy>
  <dcterms:modified xsi:type="dcterms:W3CDTF">2011-01-27T19:32:21Z</dcterms:modified>
  <cp:revision>21</cp:revision>
  <dc:subject/>
  <dc:title>Галузева структура рослинництва</dc:title>
</cp:coreProperties>
</file>