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DA0-C173-4025-8B4E-E0F802DC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11F-E0DF-4B1F-875A-F41EB90E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FD6D7-C382-4AAF-BBBA-4D1AE14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06027-EC5B-4157-B25C-915646CE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8E486-4CE8-421E-AAC2-A25F5EF4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35389-BA6E-4940-B304-5B6DB65A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333D4-303B-4549-9085-83A521F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D835B-0384-4AA3-A117-38A76356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0477C-ADB2-4111-A26C-A4724D29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DE8C1-5BA4-4A0A-BC4D-BE84C425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711D6-CAEE-4529-9BE4-89A97BA7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DEF-4505-4275-9540-27E8A37B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29E-83C7-409D-B9FA-CA89D36A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3B97-7646-4152-AACF-E2AB0080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7DFD-31C4-4673-89C5-7BFEA50A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DAC0-75D9-42E8-A37B-417991D6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395F-4D40-439E-9FEC-F8140FAB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F07A-2C19-465E-97A2-7FF54D1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F8F8-D5DD-49F5-BAB1-1CFC42C4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8EAE-F2A4-4E91-9514-AC44FD0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B66-35BE-48B3-8E4C-B803DDD7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2422-A20A-46FC-97F6-236C241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DA9D-D7CC-4527-8EF5-047A4BAD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C671-C243-4060-9A50-215270B3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FA39-9FD7-48F6-B1F0-9215ABE1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25CA-6560-43A3-BC91-12DB520C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49E5-D6B8-47AF-902D-E9B66DEB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B8FA-A1A9-4866-A384-EFA12502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8A36-040D-4D5F-BA30-92686696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EFF2-BAE8-4DA4-8988-93639050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332D9-28C5-4B38-9A3C-069DB490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F55-8323-4391-A926-739E1D2E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F550-C06D-4B18-8CED-38FA718F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97E7-EFB3-455E-98F8-B8B4336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46C3-CC45-4D84-8B09-2DCF24C5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453C-ADA3-4D0A-9872-CDA252AE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CA77-48D6-40D3-A5A5-48196700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2EDC-A4A6-43BC-89A7-35E05E73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7CA7-B1CA-464B-A4CD-EB1917C1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1047-D27C-40B0-BF26-0FB520D3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1E7E-0491-4F4D-B61C-0222F821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B394-1B57-4D3E-B279-270B5896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47C-D0C6-4A66-B379-4F9BEC3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EB50-FD83-4EAD-87DB-FBD3C002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D8180-980E-4F1A-BEF5-0BE7B6EE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FB65-042C-44A3-AEA9-0E30F0FF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DCC4-D52E-484E-942E-E5E5D2B6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8F82-01C9-475E-8B3F-388685A3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111ED-ED11-44C2-97A4-64474967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4B5E5-A51D-4292-8B50-B54FA1EF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A068-3D6E-4D6D-8026-EEAD94C9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C4D7-440B-47D8-B080-A6D7BA96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A1575-4368-436E-8255-16FB5F7C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EC9-D3DE-4040-89D1-30662EB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4965C-9935-4FDF-889F-C4703B7E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4B735-7A2F-4BD4-83DB-79E9F5BD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59FED-D130-4040-90DA-E96DDA4F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6EED8-2AE0-446D-B113-4FCAF481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A533-6C1D-48E5-857C-A92C5FF6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8F32F-AB3B-4FFE-B5A3-994E6437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A72A5-FCFF-4784-BB3C-DD065FB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1AD0B-2E4F-4452-9740-BF81487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DCE4-D55B-470F-96B9-8F5E37F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6C005-3EAB-4DFD-9262-6B93981C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485-CAD5-46C9-B606-BD8086B7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5BA3-CC9B-494F-AF99-4FDE82F8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63344-B9ED-4DEF-AA8D-E2B3D49A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F4A93-032E-460B-B177-50A44636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9AD48-56D5-4D3D-8DD6-BD8F91A2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D1566-7B07-4359-9DCF-B5262B53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D221F-6D6A-47D3-9BD3-07271874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6E99-2937-422A-98C2-6F6E862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9F59D-31DC-4983-9032-66ACC18A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4BB92-BCBA-43A8-9AF5-0DB03F5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EB300-24CB-4D8C-B3BF-2EAE60A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06F-1564-4BA4-848A-2C23B3A8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55895-E295-4F4C-BB53-00F4A8AD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4650-0A50-4499-96B5-C6A4CB33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5E56-A5B8-48AE-9ABD-7C86B920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EF5FC-01B2-455E-8E2B-101253F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851F8-6F87-4B1F-82FE-2F70D8FC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B0AD0-ABF6-43C8-8FDC-006271A1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C3E24-8BE3-4F0C-AB88-869893E4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1246A-50F7-46B0-9D6A-A8271290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8A4C-8126-4E3B-976A-F1A16C7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DDC36-8EB0-46F7-91CB-D8131F35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A9A-9D50-4F4C-99AC-51BF596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53435-60EA-4C74-9B9A-DB703C6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FF011-2698-4014-9FFA-80E4D7D4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7E079-C757-4C61-A1EA-2BC3D824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08046-1FFA-4F28-992A-3C32B073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D738E-705E-43E7-A216-B1FAE95E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D845B-2075-424E-9523-A529FDE0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0EAC9-B4F9-4A5D-AE4C-FB61A864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66C8A-418F-4C67-9C9E-68E43E37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B2FC0-CB52-4A45-8639-CC7BB317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677B-B362-4CA4-81E2-A4B9BECE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364-84AE-4815-A9A1-6AA2B258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5F0B4-D00B-42B6-BD7D-342BD494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FA67-A208-44D4-AE88-8E05AC6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C8683-AC4B-4024-BDB2-E0B8EA47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FC83-8328-467A-B898-3F5BC930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76F64-0FDA-4AC1-9988-E1BDA017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111D1-15E7-48DC-B3CB-AD332E40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60BD6-2620-4171-993F-516C9748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BA39B-D221-4D1C-B4B0-B006B200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90119-5B02-44E5-96D5-B592540C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994B2-31A8-4BC3-990A-B20B09CA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04E5-E011-4C73-B519-0EF39A29C42C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BBD4-BD3B-4600-9137-27541DC05AC3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BBDF-07A4-470A-A510-4CAF39B72D88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e7f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6e7fc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6e7f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c6e7fc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32D3-C4F5-4420-BD02-DEA1FDE2A34E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2396-4A21-45DF-AFE1-A22A98C06673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F00F-131D-4521-90F9-B1A675FDB49B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4AB1-7053-4348-A308-B8357C85D446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E9B6-9960-4D4A-947E-913C5663F303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1b6f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1b6f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73e87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73e87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a0d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592B-28E2-4AA4-A383-7F5186BAD7E1}" type="slidenum">
              <a:rPr b="0" lang="ru-RU" sz="1200" spc="-1" strike="noStrike">
                <a:solidFill>
                  <a:srgbClr val="2aa0d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3"/>
          <p:cNvSpPr/>
          <p:nvPr/>
        </p:nvSpPr>
        <p:spPr>
          <a:xfrm>
            <a:off x="1604880" y="189000"/>
            <a:ext cx="627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Bookman Old Style"/>
              </a:rPr>
              <a:t>Водний транспорт 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Bookman Old Style"/>
              </a:rPr>
              <a:t>України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Picture 2" descr="http://img-fotki.yandex.ru/get/8/unatan.5/0_46c1_2496b526_orig"/>
          <p:cNvPicPr/>
          <p:nvPr/>
        </p:nvPicPr>
        <p:blipFill>
          <a:blip r:embed="rId1"/>
          <a:srcRect l="0" t="8512" r="0" b="0"/>
          <a:stretch/>
        </p:blipFill>
        <p:spPr>
          <a:xfrm>
            <a:off x="1316160" y="1916280"/>
            <a:ext cx="6632280" cy="455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3"/>
          <p:cNvSpPr/>
          <p:nvPr/>
        </p:nvSpPr>
        <p:spPr>
          <a:xfrm>
            <a:off x="826920" y="44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179280" y="620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країна має сприятливі передумови для розвитку морського транспорту; на півдні її територію омивають води Чорного та Азовського морів, які практично не замерзають і з'єднуються з Середземним морем через протоку Босфор, Марму­рове море і протоку Дарданелли. Загальна довжина морської бере­гової лінії України понад 2000 км Регулярні морські перевезення Чорним й Азовським морями почалися наприкінці XVIII ст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2" descr="http://www.ukrmap.kiev.ua/program2010/g6/rozdil3_files/image190.gif"/>
          <p:cNvPicPr/>
          <p:nvPr/>
        </p:nvPicPr>
        <p:blipFill>
          <a:blip r:embed="rId1"/>
          <a:stretch/>
        </p:blipFill>
        <p:spPr>
          <a:xfrm>
            <a:off x="1619280" y="2637000"/>
            <a:ext cx="5933880" cy="41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179280" y="692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же в IV—VI ст. Чорне море було судноплавним. Київська Русь (X—XIII ст.) мала стабільні зв'язки з Візантією. Відомі морські по­ходи київських князів на Константинополь. Після перемоги над Туреччиною у 80-х роках XVIII ст. і переходу до Російської імперії Північного Причорномор'я Приазов'я тут виникають порти — Херсон (1778), Севастополь (1788), Одеса (1794). У Миколаєві та Севастополі створено суднобудівні підприємства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Picture 4" descr="http://www.ukraine-in.com.ua/UploadFiles/File_45347956Vn.jpg"/>
          <p:cNvPicPr/>
          <p:nvPr/>
        </p:nvPicPr>
        <p:blipFill>
          <a:blip r:embed="rId1"/>
          <a:srcRect l="3014" t="0" r="2536" b="3923"/>
          <a:stretch/>
        </p:blipFill>
        <p:spPr>
          <a:xfrm>
            <a:off x="395280" y="2924280"/>
            <a:ext cx="4032360" cy="308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9" name="Picture 6" descr="http://www.city.kherson.ua/libs/news/data/upimages/morportt111.JPG"/>
          <p:cNvPicPr/>
          <p:nvPr/>
        </p:nvPicPr>
        <p:blipFill>
          <a:blip r:embed="rId2"/>
          <a:stretch/>
        </p:blipFill>
        <p:spPr>
          <a:xfrm>
            <a:off x="4694400" y="3227400"/>
            <a:ext cx="417816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Прямоугольник 2"/>
          <p:cNvSpPr/>
          <p:nvPr/>
        </p:nvSpPr>
        <p:spPr>
          <a:xfrm>
            <a:off x="179280" y="76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З 1978 р. діє одна з найбільших у світі паромна переправа між Іллічівськом і болгарським портом Варна протяжністю 435 км. Для поліпшення зв'язків України з Північним Кавказом споруджено залізнично-паромну переправу через Керченську протоку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2" name="Picture 2" descr="http://www.ilport.com.ua/ckfinder/userfiles/images/1007.jpg"/>
          <p:cNvPicPr/>
          <p:nvPr/>
        </p:nvPicPr>
        <p:blipFill>
          <a:blip r:embed="rId1"/>
          <a:stretch/>
        </p:blipFill>
        <p:spPr>
          <a:xfrm>
            <a:off x="1619280" y="2276640"/>
            <a:ext cx="6095880" cy="40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Прямоугольник 2"/>
          <p:cNvSpPr/>
          <p:nvPr/>
        </p:nvSpPr>
        <p:spPr>
          <a:xfrm>
            <a:off x="179280" y="69228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йважливішими морськими портами є Одеса, Ізмаїл, Іллічівськ, Херсон, Миколаїв, Севастополь, Ялта, Феодосія, Керч та ін. Великі) портові міста на берегах Азовського моря — Маріуполь, Бердянські тощо. Через порти Чорного й Азовського морів здійснюються зов­нішньоекономічні зв'язки країни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5" name="Picture 4" descr="http://vkurse.ua/i/2008-04/portovykh-krizisov.jpg"/>
          <p:cNvPicPr/>
          <p:nvPr/>
        </p:nvPicPr>
        <p:blipFill>
          <a:blip r:embed="rId1"/>
          <a:stretch/>
        </p:blipFill>
        <p:spPr>
          <a:xfrm>
            <a:off x="3895560" y="2492280"/>
            <a:ext cx="506916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6" name="Picture 6" descr="http://agrobiznes.com.ua/photos/news/2009/07/ukrainskie_porty_uve.jpg"/>
          <p:cNvPicPr/>
          <p:nvPr/>
        </p:nvPicPr>
        <p:blipFill>
          <a:blip r:embed="rId2"/>
          <a:stretch/>
        </p:blipFill>
        <p:spPr>
          <a:xfrm>
            <a:off x="250920" y="2744640"/>
            <a:ext cx="343512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179280" y="7650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новними експортними ванта­жами є кам'яне вугілля, залізна руда, кокс, чорні метали, ліс, цу­кор, хімічні продукти тощо; імпортними — машини, устаткування мінерально-сировинні ресурси та ін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9" name="Picture 2" descr="http://uaprom-image.s3.amazonaws.com/1106748_w640_h640_o12.jpg"/>
          <p:cNvPicPr/>
          <p:nvPr/>
        </p:nvPicPr>
        <p:blipFill>
          <a:blip r:embed="rId1"/>
          <a:srcRect l="0" t="0" r="0" b="19168"/>
          <a:stretch/>
        </p:blipFill>
        <p:spPr>
          <a:xfrm>
            <a:off x="520560" y="2133720"/>
            <a:ext cx="8029800" cy="33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Прямоугольник 2"/>
          <p:cNvSpPr/>
          <p:nvPr/>
        </p:nvSpPr>
        <p:spPr>
          <a:xfrm>
            <a:off x="179280" y="76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нову морського транспорту України становлять Чорноморське (ЧМП), Азовське (АМП) та Українсько-Дунайське (УДП) пароплавства, що володіють транспортним флотом сумарною вантажністю 5,2 млн т і пасажирським флотом на 9,9 тис. місць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2" name="Picture 2" descr="http://content.foto.mail.ru/list/xek-xek/_blogs/i-127.jpg"/>
          <p:cNvPicPr/>
          <p:nvPr/>
        </p:nvPicPr>
        <p:blipFill>
          <a:blip r:embed="rId1"/>
          <a:stretch/>
        </p:blipFill>
        <p:spPr>
          <a:xfrm>
            <a:off x="901800" y="2133720"/>
            <a:ext cx="7486560" cy="43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Прямоугольник 2"/>
          <p:cNvSpPr/>
          <p:nvPr/>
        </p:nvSpPr>
        <p:spPr>
          <a:xfrm>
            <a:off x="179280" y="76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 території України розташовані 18 портів, до них належать 175 перевантажувальних комплексів, 8 судноремонтних заводів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5" name="Рисунок 2" descr="24-4.jpg"/>
          <p:cNvPicPr/>
          <p:nvPr/>
        </p:nvPicPr>
        <p:blipFill>
          <a:blip r:embed="rId1"/>
          <a:stretch/>
        </p:blipFill>
        <p:spPr>
          <a:xfrm>
            <a:off x="311040" y="1471680"/>
            <a:ext cx="8586720" cy="50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Прямоугольник 2"/>
          <p:cNvSpPr/>
          <p:nvPr/>
        </p:nvSpPr>
        <p:spPr>
          <a:xfrm>
            <a:off x="179280" y="765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деса- головний порт Україн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8" name="Picture 2" descr="http://www.zim.com/res/OdessaPort1.jpg"/>
          <p:cNvPicPr/>
          <p:nvPr/>
        </p:nvPicPr>
        <p:blipFill>
          <a:blip r:embed="rId1"/>
          <a:stretch/>
        </p:blipFill>
        <p:spPr>
          <a:xfrm>
            <a:off x="1332000" y="1322280"/>
            <a:ext cx="6854760" cy="513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Прямоугольник 2"/>
          <p:cNvSpPr/>
          <p:nvPr/>
        </p:nvSpPr>
        <p:spPr>
          <a:xfrm>
            <a:off x="468360" y="7650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деський порт є одним з перевалочних пунктів на шляху міжнародних транспортних коридорів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ан-європейський транспортний коридор №9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1" name="Picture 2" descr="http://www.port.odessa.ua/koridor_pic/map0-r.jpg"/>
          <p:cNvPicPr/>
          <p:nvPr/>
        </p:nvPicPr>
        <p:blipFill>
          <a:blip r:embed="rId1"/>
          <a:stretch/>
        </p:blipFill>
        <p:spPr>
          <a:xfrm>
            <a:off x="2556000" y="1844640"/>
            <a:ext cx="4398840" cy="48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Прямоугольник 2"/>
          <p:cNvSpPr/>
          <p:nvPr/>
        </p:nvSpPr>
        <p:spPr>
          <a:xfrm>
            <a:off x="468360" y="76500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деський порт є одним з перевалочних пунктів на шляху міжнародних транспортних коридорів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іжнародний транспортний коридор Гданськ-Одес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4" name="Picture 2" descr="http://www.port.odessa.ua/koridor_pic/map1-r.jpg"/>
          <p:cNvPicPr/>
          <p:nvPr/>
        </p:nvPicPr>
        <p:blipFill>
          <a:blip r:embed="rId1"/>
          <a:stretch/>
        </p:blipFill>
        <p:spPr>
          <a:xfrm>
            <a:off x="2185920" y="2243160"/>
            <a:ext cx="5122800" cy="42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3"/>
          <p:cNvSpPr/>
          <p:nvPr/>
        </p:nvSpPr>
        <p:spPr>
          <a:xfrm>
            <a:off x="179280" y="18900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одний транспорт давніший за походженням, аніж сухопутний. Він використовувався майже всіма народами ще з часів мезоліту (близько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III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ис. до н. є.). У кожній кліматичній зоні застосовувалися на водоймах найрізноманітніші типи пристосувань для транспортування людей і вантажів, а також для рибальства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2" name="Рисунок 1" descr=""/>
          <p:cNvPicPr/>
          <p:nvPr/>
        </p:nvPicPr>
        <p:blipFill>
          <a:blip r:embed="rId1"/>
          <a:stretch/>
        </p:blipFill>
        <p:spPr>
          <a:xfrm>
            <a:off x="1643040" y="1773360"/>
            <a:ext cx="6168960" cy="462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Прямоугольник 2"/>
          <p:cNvSpPr/>
          <p:nvPr/>
        </p:nvSpPr>
        <p:spPr>
          <a:xfrm>
            <a:off x="468360" y="8287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Одеський порт є одним з перевалочних пунктів на шляху міжнародних транспортних коридорів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анспортний коридор Європа - Кавказ - Азія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Picture 8" descr="http://portnews.ru/attachment/d276395ae339100609ac2cba48f7d7867b69679b"/>
          <p:cNvPicPr/>
          <p:nvPr/>
        </p:nvPicPr>
        <p:blipFill>
          <a:blip r:embed="rId1"/>
          <a:stretch/>
        </p:blipFill>
        <p:spPr>
          <a:xfrm>
            <a:off x="1547640" y="1916280"/>
            <a:ext cx="6445440" cy="482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"/>
          <p:cNvSpPr/>
          <p:nvPr/>
        </p:nvSpPr>
        <p:spPr>
          <a:xfrm>
            <a:off x="876240" y="1666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Морськ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Прямоугольник 2"/>
          <p:cNvSpPr/>
          <p:nvPr/>
        </p:nvSpPr>
        <p:spPr>
          <a:xfrm>
            <a:off x="1619280" y="92232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Із загального обсягу вивезення вантажі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0" name="Диаграмма 1" descr=""/>
          <p:cNvPicPr/>
          <p:nvPr/>
        </p:nvPicPr>
        <p:blipFill>
          <a:blip r:embed="rId1"/>
          <a:stretch/>
        </p:blipFill>
        <p:spPr>
          <a:xfrm>
            <a:off x="1136520" y="1433520"/>
            <a:ext cx="7182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Прямоугольник 2"/>
          <p:cNvSpPr/>
          <p:nvPr/>
        </p:nvSpPr>
        <p:spPr>
          <a:xfrm>
            <a:off x="179280" y="8650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же у період Київської Русі був відомий у Європі шлях «із варяг у греки», який проходив Дніпром через Київ і з'єднував Балтійське море з Візантійською столицею Константинополем. Тоді ж, за свідченнями давньоруських літописців, по Дністру транспортували сіль із Прикарпатт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5" name="Рисунок 4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3244680" cy="4687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http://upload.wikimedia.org/wikipedia/commons/thumb/d/dd/Varangian_routes.png/350px-Varangian_routes.png"/>
          <p:cNvPicPr/>
          <p:nvPr/>
        </p:nvPicPr>
        <p:blipFill>
          <a:blip r:embed="rId2"/>
          <a:stretch/>
        </p:blipFill>
        <p:spPr>
          <a:xfrm>
            <a:off x="316080" y="2630520"/>
            <a:ext cx="5091120" cy="353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Прямоугольник 2"/>
          <p:cNvSpPr/>
          <p:nvPr/>
        </p:nvSpPr>
        <p:spPr>
          <a:xfrm>
            <a:off x="179280" y="765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 XIV—XVII ст. у зв'язку з розвитком внутрішньої і зовнішньої торгівлі роль водних артерій України ще більше зросла. Особливо важливого значення вони набули на Поліссі, де не вистачало сухопутних комунікацій, а наявні через специфічність місцевих природних факторів весною і восени часто ставали непридатними для транспортно-виробничої діяльності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9" name="Picture 2" descr="http://upload.wikimedia.org/wikipedia/commons/thumb/7/7c/Mariupol_st_ptistan.jpg/400px-Mariupol_st_ptistan.jpg"/>
          <p:cNvPicPr/>
          <p:nvPr/>
        </p:nvPicPr>
        <p:blipFill>
          <a:blip r:embed="rId1"/>
          <a:stretch/>
        </p:blipFill>
        <p:spPr>
          <a:xfrm>
            <a:off x="1692360" y="2509920"/>
            <a:ext cx="6497640" cy="415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Прямоугольник 2"/>
          <p:cNvSpPr/>
          <p:nvPr/>
        </p:nvSpPr>
        <p:spPr>
          <a:xfrm>
            <a:off x="179280" y="765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икінці XVIII — у XIX ст. у басейнах рік Дніпра і Прип'яті споруджуються штучні водні траси-канали — Дніпровсько-Бузький, Огінський, Березінський. Вони сприяли розширенню торговельно-економічних зв'язків населення Середнього Подніпров'я та Полісся з білорусами, поляками, народами Прибалтики і всього Балтійського водного басейну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2" name="Picture 4" descr="http://leksika.com.ua/imag/bsue8/60_331.jpg"/>
          <p:cNvPicPr/>
          <p:nvPr/>
        </p:nvPicPr>
        <p:blipFill>
          <a:blip r:embed="rId1"/>
          <a:srcRect l="8680" t="24360" r="5983" b="1245"/>
          <a:stretch/>
        </p:blipFill>
        <p:spPr>
          <a:xfrm>
            <a:off x="2889360" y="2276640"/>
            <a:ext cx="3411360" cy="441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179280" y="765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Штучними водними трасами і місцевими ріками активно перевозили продукти лісу, будівельні матеріали, хліб, промислові й ремісничі вироби тощо. Широко використовувалися для транспортування різноманітних товарів також Сіверський Донець, Інгулець, Південний Буг, Західний Буг, Тиса, Прут, Дністер. По Дністру, наприклад, сплавляли до чорноморських портів та в країни Південної Європи будівельний ліс, пиломатеріали (ґонт, дошки, бруси), вироби з дерева, залізо з Карпат, сіль з Гуцульщини та Покуття, хліб, олію, тканини, фосфорити та інші вантажі з Поділля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2" descr="http://geosite.com.ua/t4/vodnui_transport.jpeg"/>
          <p:cNvPicPr/>
          <p:nvPr/>
        </p:nvPicPr>
        <p:blipFill>
          <a:blip r:embed="rId1"/>
          <a:stretch/>
        </p:blipFill>
        <p:spPr>
          <a:xfrm>
            <a:off x="2556000" y="3429000"/>
            <a:ext cx="4411440" cy="30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Рисунок 3" descr="350px-Ukraina.png"/>
          <p:cNvPicPr/>
          <p:nvPr/>
        </p:nvPicPr>
        <p:blipFill>
          <a:blip r:embed="rId1"/>
          <a:stretch/>
        </p:blipFill>
        <p:spPr>
          <a:xfrm>
            <a:off x="369720" y="425520"/>
            <a:ext cx="840744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179280" y="8650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анспортують: ліс, нафта, нафтопродукти, зерно, будівельні матеріали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Рисунок 1" descr=""/>
          <p:cNvPicPr/>
          <p:nvPr/>
        </p:nvPicPr>
        <p:blipFill>
          <a:blip r:embed="rId1"/>
          <a:stretch/>
        </p:blipFill>
        <p:spPr>
          <a:xfrm>
            <a:off x="1284120" y="1989000"/>
            <a:ext cx="6743880" cy="421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3"/>
          <p:cNvSpPr/>
          <p:nvPr/>
        </p:nvSpPr>
        <p:spPr>
          <a:xfrm>
            <a:off x="826920" y="1922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ічковий транспор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Прямоугольник 2"/>
          <p:cNvSpPr/>
          <p:nvPr/>
        </p:nvSpPr>
        <p:spPr>
          <a:xfrm>
            <a:off x="179280" y="765000"/>
            <a:ext cx="871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внутрішні перевезення припадає – 75%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В основному перевозять будівельні матеріали – 96 %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Довжина водних шляхів близько 2,4 тис км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Судноплавні річки: Дніпро з Десною та Прип'яттю, Південний Буг, Сіверський Донець, Дністер, Дунай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Найбільший обсяг вантажних перевезень здійснюють Київська, Дніпропетровська, Запорізька і Херсонська області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2" name="Picture 2" descr="http://buvr.vn.ua/uploads/news/%D0%9A%D0%B0%D1%80%D1%82%D0%B0_%D0%B1%D0%B0%D1%81%D0%B5%D0%B9%D0%BD%D1%83_%D1%84%D0%B7.jpg"/>
          <p:cNvPicPr/>
          <p:nvPr/>
        </p:nvPicPr>
        <p:blipFill>
          <a:blip r:embed="rId1"/>
          <a:srcRect l="3307" t="4626" r="2787" b="1717"/>
          <a:stretch/>
        </p:blipFill>
        <p:spPr>
          <a:xfrm>
            <a:off x="1998720" y="3011400"/>
            <a:ext cx="4949640" cy="37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4:54:11Z</dcterms:created>
  <dc:creator>Виталий</dc:creator>
  <dc:description/>
  <dc:language>en-US</dc:language>
  <cp:lastModifiedBy>Виталий</cp:lastModifiedBy>
  <dcterms:modified xsi:type="dcterms:W3CDTF">2011-02-13T16:27:06Z</dcterms:modified>
  <cp:revision>14</cp:revision>
  <dc:subject/>
  <dc:title>Презентация PowerPoint</dc:title>
</cp:coreProperties>
</file>