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D537-4440-41C1-9A61-1C58BA13F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3371-53EF-4AA9-A12D-68F20BCB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C770-1310-4BDF-B19D-7C4D51A04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E59C-A39F-4A50-974C-EAECF2255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1281-73F1-4A4C-AA7D-BB8CA1411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D628-F1CC-402B-A826-8C8E7746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062A-A3DA-4095-901A-E89F9D78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F5BB6-D93C-4975-8E0D-D15EC49B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AA97-A908-47D2-A48B-2E011768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AEAB-7345-4E39-A71C-A60425E6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2729-74F7-4D7D-AAD4-EB2A23F8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F077-CA66-45F2-BC99-0DC4C049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9801E-6AF2-460F-BCC3-40B95DA0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6D87-D677-4345-A0F7-BEF05376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DB8AB-1449-420E-B960-C1A09D0C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76077-1AAD-43E6-9066-762A499B0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E2C4-6E35-4A7F-8220-FB69A2579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8105-6B17-471F-8D5C-B5A2D9C3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BACC-84D4-426D-835B-F97A8052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8EE8-8AAA-47B6-81B2-391FFE51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EA48-6152-4931-A212-DDACB310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5226-F751-43D6-8446-EDF13536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0503-142A-4315-9DCE-C16A7A52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26A9-20E7-4FAC-9B2E-78DD8B6C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CECC-4CFF-48A0-8988-BCDB5B6D171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88E4-3DF0-49EA-AC37-9D1D54A0401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cc"/>
                </a:solidFill>
                <a:latin typeface="Tahoma"/>
              </a:rPr>
              <a:t>Виникнення християнств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Tahoma"/>
              </a:rPr>
              <a:t>Основні ідеї християнств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00400" y="1294920"/>
            <a:ext cx="5486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Які ви знаєте основні положення християнств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Найважливішою відмінністю християнства від інших релігій давнини була повна відмова від національних та майнових бар'єрів у питаннях віри ( віра робила всіх рівними), від жертвоприношень, обрядовості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2257200" cy="4038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838080" y="57913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Ісус Христо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Tahoma"/>
              </a:rPr>
              <a:t>Перші християнські громади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38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Перші християнські громади виникли В Палестині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Перші громади, що визнали нового Бога – Спасителя Христа, з”явилися в Малій Азії ( Ефес, Смірна, Пергам, Тіатір, Сардах, Александрії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Громади вирізнялися простотою організації, відсутністю керівництв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Члени громад улаштовували спільні трапези – збори, на яких виголошувалися проповіді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Для раннього християнства характерна різноманітність угрупувань, течій, між якими не було згоди з найважливіших питань віровченн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Спільним було лише ненависть до Риму і надія на його швидке падіння, віра в пришестя Бога – Спасител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523200" y="1600200"/>
          <a:ext cx="211608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3200" y="1600200"/>
                    <a:ext cx="21160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629400" y="4800600"/>
            <a:ext cx="19051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Християнський симво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V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ст. н.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Tahoma"/>
              </a:rPr>
              <a:t>Перші християнські громади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У ІІ – ІІІ ст. н.е. до християнських громад стали вступати і багаті люд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Із середини ІІ ст. н.е. відбувається утворення церковної організації громад, яка поділялася на клір ( духівництво ) і миря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Первісні трапези перетворилися на богослужінн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Зміцнення зв'язків між громадами привело до створення єдиної християнської церкв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Ставлення римських імператорів до християнства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Прочитайте п.4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§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  <a:ea typeface="Tahoma"/>
              </a:rPr>
              <a:t> 46 і дайте відповіді на запитанн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  <a:ea typeface="Tahoma"/>
              </a:rPr>
              <a:t>Що викликало незадоволення римської влади християнам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  <a:ea typeface="Tahoma"/>
              </a:rPr>
              <a:t>Як карали християн за їх віру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  <a:ea typeface="Tahoma"/>
              </a:rPr>
              <a:t>За часів якого імператора християн переслідували особливо жорстоко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09480" y="2252520"/>
            <a:ext cx="373392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Ставлення римських імператорів до християнства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Для того, щоб уникнути переслідувань, християни стали проводити свої зібрання у римських підземеллях ( катакомбах), що знаходились під Римом та тягнулися на багато кілометрів під земле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В основному вони були від 2,5 до 3 м шириною та 1,2 – 1,5 м висото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Тут християни справляли свої обряди, тут переховувались від чергових репресі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40384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Tahoma"/>
              </a:rPr>
              <a:t>Виснов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Християнство стає однією із світових релігі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Християни поклонялися одному Бог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Tahoma"/>
              </a:rPr>
              <a:t>План вивченн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Причини виникнення християн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Ісус Христо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Основні ідеї християн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Перші християнські громад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Ставлення римських імператорів до християн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Tahoma"/>
              </a:rPr>
              <a:t>Опорні поняття теми уроку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Християн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Ісус Христо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Євангеліє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Біблі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Грома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Монотеїз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ичини виникнення християнства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На які групи поділялося населення Римської імперії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Громадяни, негромадян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Які верстви населення не мали громадянських та політичних прав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Раби, жителі провінцій, прийшле населенн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Які верстви населення були найбільш пригноблені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Раб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До яких форм протесту вдавалися пригноблені верстви римського суспільства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Повстання, втечі, вбивство, рабовласників, нанесення шкоди господарств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Чи мали вони успіх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Всі спроби пригноблених верств населення визволитися закінчувалися поразко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Як ви вважаєте, у чому ще могли знайти порятунок знедолені люди в умовах дедалі жорстокішого ставлення до них держави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ичини виникнення християнства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Пригноблене населення Римської імперії не мало громадянських та політичних пра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Пригноблене населення Римської імперії нещадно грабувалося та експлуатувалося державо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Будь – які спроби невдоволення пригноблених верств населення нещадно придушували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Єдиним порятунком у тих умовах, що склалися в Римській імперії в І ст. н.е., для багатьох людей була ВІРА в те, що з'явиться нова надприродна сила, яка допоможе їм після смерті отримати  нове життя – спокійне і щаслив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Такою надприродною силою може стати тільки один БО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ичини виникнення християнства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Учення про безсмертя душі й потойбічну відплату лягло в основу нової релігії – ХРИСТИЯНСТВ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Християнство виникло в другій половині І ст. н.е. у східних провінціях Римської імперії спочатку в середовищі євреїв, але вже в перші десятиліття набуло поширення й серед інших народност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754600" y="1523880"/>
          <a:ext cx="316080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54600" y="1523880"/>
                    <a:ext cx="31608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5715000" y="61722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Палестина ( Іудея ) – район виникнення християн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Причини виникнення християнства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Помазаником Божим, Месією християни вважають Ісуса Хрис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ХРИСТОС (від грец. </a:t>
            </a:r>
            <a:r>
              <a:rPr b="0" i="1" lang="uk-UA" sz="2000" spc="-1" strike="noStrike">
                <a:solidFill>
                  <a:srgbClr val="ffffff"/>
                </a:solidFill>
                <a:latin typeface="Tahoma"/>
              </a:rPr>
              <a:t>«Месія, посланець Божий») </a:t>
            </a: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— Син Божий, який заради спокути людських гріхів прийняв смерть на хресті, потім воскрес і знісся на небеса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ІСУС – давньоєврейське ім'я, яке в перекладі на українську мову означає “Бог спасає”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3547800" cy="3581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38080" y="5638680"/>
            <a:ext cx="35053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ahoma"/>
              </a:rPr>
              <a:t>Портрет Ісуса — так Його зображали в перші століття після Розп'яття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Tahoma"/>
              </a:rPr>
              <a:t>Ісус Христос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Прочитайте п.2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§</a:t>
            </a:r>
            <a:r>
              <a:rPr b="0" lang="uk-UA" sz="2000" spc="-1" strike="noStrike">
                <a:solidFill>
                  <a:srgbClr val="ffffff"/>
                </a:solidFill>
                <a:latin typeface="Tahoma"/>
                <a:ea typeface="Tahoma"/>
              </a:rPr>
              <a:t> 46 і дайте відповіді на запитанн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  <a:ea typeface="Tahoma"/>
              </a:rPr>
              <a:t>Де народився Ісус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  <a:ea typeface="Tahoma"/>
              </a:rPr>
              <a:t>Хто були його батьки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  <a:ea typeface="Tahoma"/>
              </a:rPr>
              <a:t>Чого навчав Ісус Христос людей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  <a:ea typeface="Tahoma"/>
              </a:rPr>
              <a:t>Хто його зрадив? За що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  <a:ea typeface="Tahoma"/>
              </a:rPr>
              <a:t>У що вірять послідовники Ісуса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  <a:ea typeface="Tahoma"/>
              </a:rPr>
              <a:t>Що таке Євангелія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Яку літературну пам'ятку називають “Книгою книг”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3894120" cy="4648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57200" y="6248520"/>
            <a:ext cx="37339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ahoma"/>
              </a:rPr>
              <a:t>Ісус Христос. Малюнок у римських катакомба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Tahoma"/>
              </a:rPr>
              <a:t>Зрада Іуди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Поцілунок Іуди. Мозаїка. Євангелія розповідають, що один з учнів Христа Іуда вирішив зректись вчителя і видати його фарисеям. Оскільки варта не знала Ісуса в обличчя, то Іуда сказав, що солдати мають арештувати того, кого він поцілує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За зраду Іуді заплатили тридцять срібних монет. Проте вони не принесли зрадникові щастя. Від нього всі відвернулися, і, мабуть, усвідомивши мерзенність свого вчинку, Іуда повісивс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З того часу вислів «тридцять срібляків» став синонімом зрад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14320" y="2490840"/>
            <a:ext cx="332280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ксим</cp:lastModifiedBy>
  <dcterms:modified xsi:type="dcterms:W3CDTF">2012-07-27T07:10:58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